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2.gif" ContentType="image/gif"/>
  <Override PartName="/ppt/media/image10.wmf" ContentType="image/x-wmf"/>
  <Override PartName="/ppt/media/image9.gif" ContentType="image/gi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DD3-39BD-4F5B-9697-3D2223CB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C11-F67B-4D2F-8799-9E6139BA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D99-E645-42E2-9F04-304AA61A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030-1253-4BAA-B8B7-A57E32B3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DB3-7E03-4F76-9E7B-F68EC25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285-2E27-4C39-AB60-21BE50CC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323-74B6-4095-8F7D-A54538D4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654-A94B-4EA4-9C9D-C1D401FA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BA0-4592-4460-97A5-143A5EDF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257-62D5-46A3-AB1E-738935A8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0BF-4AB1-4627-B2B6-96C0AD27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2D0-AB3F-4D06-8756-4F083B07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877C-BDFB-4426-B862-CD868675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789A0000%5B1%5D.wav" TargetMode="External"/><Relationship Id="rId2" Type="http://schemas.microsoft.com/office/2007/relationships/media" Target="file:///tmp/home/.config/libreoffice/4/user/gallery/MSSN00789A0000%5B1%5D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file:///tmp/home/.config/libreoffice/4/user/gallery/MSj03884540000%5B1%5D.wav" TargetMode="External"/><Relationship Id="rId3" Type="http://schemas.microsoft.com/office/2007/relationships/media" Target="file:///tmp/home/.config/libreoffice/4/user/gallery/MSj0388454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file:///tmp/home/.config/libreoffice/4/user/gallery/MSj00746900000%5B1%5D.wav" TargetMode="External"/><Relationship Id="rId3" Type="http://schemas.microsoft.com/office/2007/relationships/media" Target="file:///tmp/home/.config/libreoffice/4/user/gallery/MSj0074690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542A0000%5B1%5D.wav" TargetMode="External"/><Relationship Id="rId2" Type="http://schemas.microsoft.com/office/2007/relationships/media" Target="file:///tmp/home/.config/libreoffice/4/user/gallery/MSSN00542A0000%5B1%5D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Dog, Dodger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leach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ised seats on which people sit to watch sports gam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3124080" cy="2498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183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ct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 who watch an ev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7668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ug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helter where baseball players sit when they’re waiting to pl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per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bed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pan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rim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way people and animals act or beha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76720" y="3657600"/>
            <a:ext cx="1841400" cy="177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41400" cy="1816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8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14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929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113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704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ope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people or animals work together to accomplish a go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589120" cy="345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75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person or an animal is willing to do what they are told to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3352680"/>
            <a:ext cx="364968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erson or animal who spends times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81024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think about something carefully before making a decis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48200" y="2928960"/>
            <a:ext cx="3647880" cy="348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673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prim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get a talking to, a warning, or a scolding for doing something wro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487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48120" y="3962520"/>
            <a:ext cx="2895480" cy="257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40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gg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i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eac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ecta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g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animals or people are sure about things or are certain they have the ability to do some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16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something is done in a correct w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538520" cy="258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58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repeat an action in order to impr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2920" y="2657520"/>
            <a:ext cx="3967200" cy="333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6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ok hold of something sudden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9680" y="3360600"/>
            <a:ext cx="4694400" cy="349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inding something between your tee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438280" y="3124080"/>
            <a:ext cx="4510080" cy="3235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35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 after some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378000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38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pecial gift, often f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663720" cy="39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gg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ved from side to sid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28616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813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ip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liquid falling slowly, drop by dro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81280" y="3122640"/>
            <a:ext cx="3276720" cy="3243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059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01:32Z</dcterms:created>
  <dc:creator>dyera</dc:creator>
  <dc:description/>
  <dc:language>en-US</dc:language>
  <cp:lastModifiedBy>dyera</cp:lastModifiedBy>
  <dcterms:modified xsi:type="dcterms:W3CDTF">2008-02-25T21:38:40Z</dcterms:modified>
  <cp:revision>5</cp:revision>
  <dc:subject/>
  <dc:title>Bad Dog, Dodger! Vocabulary and Amazing Words</dc:title>
</cp:coreProperties>
</file>